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694-AB70-46D3-B437-E971EC64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82D-0CEE-4545-A84E-58EE024B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030-2F40-4521-B718-A44DAF0C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822-6E6A-4D29-9EFB-30D0D6FB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307-70F5-4F33-BCC0-3668D77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E16-C0B1-4911-8A43-5FC2E55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E37-C068-414E-9CF9-36ED35CA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615-20E1-41D9-8684-F9C0BA0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200-0019-4BAB-B593-563D6AF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72A-AA6F-4139-8251-FFE2AB8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71B-1B75-4DFE-96A2-22A3395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2C8-B462-4C6E-A24B-CDD42C5E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F939-AA2F-499E-97DD-3B09FD849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DanCorwi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xikos.com/agency.jsp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ther 3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 system AP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offer data to EMRwrap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ur 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9:40:29Z</dcterms:modified>
  <cp:revision>31</cp:revision>
  <dc:subject/>
  <dc:title>COI Architecture? </dc:title>
</cp:coreProperties>
</file>